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75F-1422-4D02-BF9F-54481CC2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BFC-13AB-4B53-B088-4A780B98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161-B30B-45D5-8D81-507484D2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C08-8189-4C43-A361-F947DFB1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799B-01A1-4611-8FEB-BE5ADE09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B4E1-23EF-4007-BEFE-FFC28CCA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DC15-D408-484E-ABA6-4F20C272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AF61-3D54-45A0-8399-9CCB65DD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1CFD-D174-47B5-A5A6-7BB1D51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C28F-C621-43D3-9336-FBAF07C6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738C-20D3-4E56-9888-46F9F44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D1B-29C0-4520-85E0-2B44329C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DDD-55AA-4E25-9BA8-211A81D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8FEB-B39D-45B4-8EC4-CFF264C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DD4A-F02C-4828-981A-B2B0E27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400E-16FB-4B21-A12B-1B74E5A5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7711-925D-4F2B-820A-C91D7D57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B04-95EC-4701-BADF-EA91AEA0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5F5-0235-4C86-952C-BCF76169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80C-3F7B-454F-BD83-7F80A4DB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CDB-63BC-4DF4-AD38-383B96F0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059-0819-43F2-AC2D-2F65334A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1B2-08F7-465A-90A8-EFC88C8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B74-34E5-4666-ABB4-AA6A5D8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262B-EAEF-4573-A304-BF1C462616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8DC6-93C8-4CCE-9A45-41FDD8E046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apanese Histor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Jessica R. and Taryn 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9210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uka Period (592-645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dhism arrived in Ja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ed by the emperor and several other powerful cl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erial family intermarried with other powerful clans, such as the Soga clan, and the Fujiwara c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ra Period (710-79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 moved to what is present day N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ture first appears from Japan, mostly from the imperi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people were Shinto, but there were also few Buddh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ea was better governed, and tax collection became more rou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ins were minted, if not widely used by the Japanes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known outbreak of smallpox threatens the area and spreads from Kyushu to N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an Period (794-1185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iod is considered the last in traditional Japanese histo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mperial court is at it’s peak during these 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rks the beginning of the Samurai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apital is moved again, to Kyoto this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said to be the most peaceful and prosperous time in Japanese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eudal Jap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panese emperors had lost much of their power, and the land was ruled by powerful families and military leaders called Shoguns. This type of government was called a Shogun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56496" b="0"/>
          <a:stretch/>
        </p:blipFill>
        <p:spPr>
          <a:xfrm>
            <a:off x="3809880" y="304920"/>
            <a:ext cx="15336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amakura Period (1185-133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d after the Kamakura Shogunate that ruled Japan during thi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gols tried to invade Ja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s with the Mongols weakened Japan, and although they were successful in driving the Mongols away, the Shogunate eventually lost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Daigo became emperor for a short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romachi Period (1336-157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shikaga Shogunate took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shogun of this period was Ashikaga Yoshia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evicted from the capital (Kyot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rtuguese ship arrived in Japan, teaching the Japanese about firea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at time, a few other trading ships reached Japan, and continued to open the country’s eyes to new technolo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zuchi-Momoyama (1568-160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parts of Japan were united again and the military grew stron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yotomi Hideyoshi was a military leader who wanted to take over Korea and Ch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sent troops of 160,000 to Korea, but they failed, and returned to Jap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598, Toyotomi died, and the Japanese dropped the idea of taking over it’s neighboring countr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time, many Koreans were brought to Japan, and they brought artistic ability and knowledge with t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o Period (1603-186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period, Japan was ruled by about 200 small rulers called Daim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st powerful of these was called the Tokogawa clan. They ruled for fifteen generations from a place called Edo, which is near present day Tok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ighest group in society became samurais. Agriculturalists and artists were considered lower class than the samu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new art forms were created, including a new form of block printing, and two types of theater, the Kabuki and Bunra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de and commerce continued to rise during the Edo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868, the Boshun war took place, resulting in the end of the Shogunate rule, putting Japan under the rule of an emperor onc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icture of a Group of Samur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stles from the Feudal Period in Jap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aka cast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appearance of Japan in Histo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pan was first mentioned in history by the Chinese, in 57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Japanese were referred to as the “Wa” people by the Chin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inese described them as a people living without a writing system or political co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a greatly influenced their culture, bringing them Buddhism, government, and a basic system of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rea also brought some cultural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333960" cy="2648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5257800" cy="3943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ijo Castle or Shogun’s Palac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cated in Kyo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imeji Castle </a:t>
            </a:r>
            <a:br>
              <a:rPr sz="4000"/>
            </a:b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the largest Castle in Japan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Nicknamed white heron from white wing architecture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Quiz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were the Japanese first called by the Chinese peopl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“Wa” people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ere did the Ainu people originate from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okkaido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is the name of the first period in prehistoric Japanese history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Jomon Period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was the most powerful clan in ancient Japan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rehistoric Jap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has been found of people living in Japan since just after the first ice age, in the form of tools that are up to 32,000 years 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4637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Fujiwara clan, or the Soga clan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en did the first known outbreak of smallpox occur in Japan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During the Nara Period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ich war resulted in the end of the Shogunate rul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Boshun war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ere is Nijo castle or the Shogun’s palace located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yoto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ich castle is the largest in Japan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imeji castle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at year did Toyotomi di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nu-the Native People of Jap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inu are the first known people to have inhabited Jap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said to have originated on Hokka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mainly hunters, fishers, and gather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blooded ainu people are mostly fair skinned, the men having dense hair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 1598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During what period was the imperial court at it’s peak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eian period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IE BREAKER: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 what year was the Boshun war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 1868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inu Peo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440160" cy="4165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267080" cy="253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2557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omon Period (13000BC to 300 BC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this period the Japanese were hunters and gatherers, main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era was named after the pottery style of th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lived in wood stilt houses or pit dwellings, and they may have had an early form of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have been some tools and artifacts found from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ayoi Period (300 BC to 300 AD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e culture was introduced during this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classes began to evol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s of the country were divided and controlled by powerful land 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echnologies were arriving from China and Ko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cient and Classical Jap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06532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fun Period (300-53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around 400 AD the country was united as Yamate Japan, with it’s political center around the province of Yamato. (Hokkaido was not yet included in Jap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Yamato court controlled clans in Kyushu and Hons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2:06:35Z</dcterms:created>
  <dc:creator>Stephan</dc:creator>
  <dc:description/>
  <dc:language>en-US</dc:language>
  <cp:lastModifiedBy>Jessica</cp:lastModifiedBy>
  <dcterms:modified xsi:type="dcterms:W3CDTF">2008-11-19T05:17:06Z</dcterms:modified>
  <cp:revision>19</cp:revision>
  <dc:subject/>
  <dc:title>Ancient Japan</dc:title>
</cp:coreProperties>
</file>